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531-F764-42F8-AF44-C0475A6A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88B-224F-4D1C-8351-713057B6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1EF-BBA9-49C1-BFB8-1FABC50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A93-810B-4D47-8E5E-DB88BFC0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94F-00A0-480A-AB90-52704C18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5ED-C284-49F0-A139-31837A8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C658-284E-499F-811F-7816D7F1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690-D5BC-46BC-B4F5-15AA876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6F4-7582-4E9B-96C6-11D26DB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F665-CA80-413B-9D76-83C44EF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F349-F17F-4D5A-8E4D-535A18C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707-654F-4107-AC67-BF4B2174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666B-15F5-4A8B-8B2A-4033AA1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7A0C-2EAB-4DB2-9E69-39DC374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DE13-1BFF-4A12-99B5-D715214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7BF2-C5EA-4ECC-8315-5E437F0D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70CB-0466-400A-806D-E3C72CAE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8FB-5E5A-4E31-BE5F-EA69C5BA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0B1-9238-4E26-8C3D-245F4A5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B9A-6084-49D4-A267-C52288B0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1F0-45D2-4F9F-A682-9B6325F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3D5-8B95-4F26-BC37-3A035F5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9EC-BD02-4E29-80C5-8C318C2E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04A-46ED-4BDF-8932-A3A1096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647-B4C4-48EC-8717-88FD9F6D81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с двумя скругленными противолежащими углами 6"/>
          <p:cNvSpPr/>
          <p:nvPr/>
        </p:nvSpPr>
        <p:spPr>
          <a:xfrm>
            <a:off x="468360" y="333360"/>
            <a:ext cx="8207280" cy="6048360"/>
          </a:xfrm>
          <a:custGeom>
            <a:avLst/>
            <a:gdLst/>
            <a:ahLst/>
            <a:rect l="l" t="t" r="r" b="b"/>
            <a:pathLst>
              <a:path w="8208912" h="6048672">
                <a:moveTo>
                  <a:pt x="100813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5040540"/>
                </a:lnTo>
                <a:cubicBezTo>
                  <a:pt x="8208912" y="5597316"/>
                  <a:pt x="7757556" y="6048672"/>
                  <a:pt x="7200780" y="6048672"/>
                </a:cubicBezTo>
                <a:lnTo>
                  <a:pt x="0" y="6048672"/>
                </a:lnTo>
                <a:lnTo>
                  <a:pt x="0" y="6048672"/>
                </a:lnTo>
                <a:lnTo>
                  <a:pt x="0" y="1008132"/>
                </a:lnTo>
                <a:cubicBezTo>
                  <a:pt x="0" y="451356"/>
                  <a:pt x="451356" y="0"/>
                  <a:pt x="1008132" y="0"/>
                </a:cubicBez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440"/>
            <a:ext cx="2857680" cy="229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468360" y="333360"/>
            <a:ext cx="8207280" cy="6048360"/>
          </a:xfrm>
          <a:custGeom>
            <a:avLst/>
            <a:gdLst/>
            <a:ahLst/>
            <a:rect l="l" t="t" r="r" b="b"/>
            <a:pathLst>
              <a:path w="8208912" h="6048672">
                <a:moveTo>
                  <a:pt x="100813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5040540"/>
                </a:lnTo>
                <a:cubicBezTo>
                  <a:pt x="8208912" y="5597316"/>
                  <a:pt x="7757556" y="6048672"/>
                  <a:pt x="7200780" y="6048672"/>
                </a:cubicBezTo>
                <a:lnTo>
                  <a:pt x="0" y="6048672"/>
                </a:lnTo>
                <a:lnTo>
                  <a:pt x="0" y="6048672"/>
                </a:lnTo>
                <a:lnTo>
                  <a:pt x="0" y="1008132"/>
                </a:lnTo>
                <a:cubicBezTo>
                  <a:pt x="0" y="451356"/>
                  <a:pt x="451356" y="0"/>
                  <a:pt x="1008132" y="0"/>
                </a:cubicBez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440"/>
            <a:ext cx="2857680" cy="229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rudocs.exdat.com/pars_docs/tw_refs/457/456283/456283_html_5c942c8c.png"/>
          <p:cNvPicPr/>
          <p:nvPr/>
        </p:nvPicPr>
        <p:blipFill>
          <a:blip r:embed="rId3"/>
          <a:stretch/>
        </p:blipFill>
        <p:spPr>
          <a:xfrm>
            <a:off x="6875640" y="333360"/>
            <a:ext cx="1804680" cy="19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20F-9605-421C-A0AE-C161FD6396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6189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49000"/>
            <a:ext cx="75614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Урок литературного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26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Л.А.Кассиль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«Отметки Риммы Лебедево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4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Работа по учебник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«Отметки Риммы Лебедево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страница 175 - 1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5832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бъясните значения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2205000"/>
            <a:ext cx="755964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- «немцам в лапы попасть»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- «не в силах нормально учиться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5975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Ленивая, трудолюбивая, искала отговорки, старательная,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неприлежная, плохо училась,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не искала отговорок, хорошо училас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040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2421000"/>
          <a:ext cx="6096240" cy="324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начале расс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конце расс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илеж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ала отговор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: училась плох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6262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Ленивая, старательная, неприлежная, трудолюбивая, хорошо училась, искала отговорки, училась плохо, не искала отговор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7280" y="2420640"/>
            <a:ext cx="65851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03280" y="2492280"/>
          <a:ext cx="6096240" cy="3384720"/>
        </p:xfrm>
        <a:graphic>
          <a:graphicData uri="http://schemas.openxmlformats.org/drawingml/2006/table">
            <a:tbl>
              <a:tblPr/>
              <a:tblGrid>
                <a:gridCol w="3024360"/>
                <a:gridCol w="307188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чале расс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нце расс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люб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илеж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ала отгов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искала отгово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: училась плох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: училась хорош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597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756144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«Мало уметь читать, надо уметь думат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59756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b050"/>
                </a:solidFill>
                <a:latin typeface="Calibri"/>
              </a:rPr>
              <a:t>Отрывок из стихотворения С.Я.Маршака «Мальчик из села Поповк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реди сугробов и воро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 селе, разрушенном дот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оит, зажмурившись ребёнок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ледний гражданин с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спуганный котёнок белы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бломок печки и трубы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 это всё, что уцеле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т прежней жизни и из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оит белоголовый Пет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 плачет, как старик без слё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и года прожил он на све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 что узнал и перенё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61898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в Абрамович Кассиль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1905- 19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C:\Users\Гыу\Desktop\1e6d8601167d669e69d433bfa8df980a.jpg"/>
          <p:cNvPicPr/>
          <p:nvPr/>
        </p:nvPicPr>
        <p:blipFill>
          <a:blip r:embed="rId1"/>
          <a:stretch/>
        </p:blipFill>
        <p:spPr>
          <a:xfrm>
            <a:off x="2556000" y="2133720"/>
            <a:ext cx="30956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928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632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Лев Абрамович Кассиль (1905−1970) — прозаик. Родился 27 июня (10 июля) 1905 года в Покровской слободе (ныне город Энгельс) Саратовской губернии в семье врача и учительницы музыки.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Гыу\Desktop\fund(5).jpg"/>
          <p:cNvPicPr/>
          <p:nvPr/>
        </p:nvPicPr>
        <p:blipFill>
          <a:blip r:embed="rId1"/>
          <a:stretch/>
        </p:blipFill>
        <p:spPr>
          <a:xfrm>
            <a:off x="6300720" y="4797360"/>
            <a:ext cx="25416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7777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Учился в гимназии, после революции преобразованной в Единую трудовую школу. </a:t>
            </a:r>
            <a:br>
              <a:rPr sz="3000"/>
            </a:b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 Сотрудничал с Покровской детской библиотекой-читальней, при которой организовывались для детей рабочих различные кружки, в том числе издавался и рукописный журнал, редактором и художником которого был Кассиль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Гыу\Desktop\0_87d6a_852a2c5e_L49.jpg"/>
          <p:cNvPicPr/>
          <p:nvPr/>
        </p:nvPicPr>
        <p:blipFill>
          <a:blip r:embed="rId1"/>
          <a:stretch/>
        </p:blipFill>
        <p:spPr>
          <a:xfrm>
            <a:off x="826920" y="404640"/>
            <a:ext cx="318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6189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 1927 году был привлечен Маяковским к работе в журнале «Новый ЛЕФ» (здесь были напечатаны отрывки из первой книги «Кондуит»), в конце 1920−1930-х годов сотрудничал с журналом «Пионер», выступал в газете «Извест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Гыу\Desktop\72.jpg"/>
          <p:cNvPicPr/>
          <p:nvPr/>
        </p:nvPicPr>
        <p:blipFill>
          <a:blip r:embed="rId1"/>
          <a:stretch/>
        </p:blipFill>
        <p:spPr>
          <a:xfrm>
            <a:off x="1042920" y="404640"/>
            <a:ext cx="3168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334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ассиль оставил много рассказ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5614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C:\Users\Гыу\Desktop\img4.jpg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55964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Многие из этих  книг посвящены будням Великой Отечественной войны,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хорошо знакомым Кассилю по собственному опыту военного корреспондента, и детям на фронте и в тылу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(в т.ч. «Рассказ об отсутствующем», «Линия связи», «Зеленая веточка», «Все вернется», «У классной доски», «Отметки Риммы Лебедевой», «Держись, капитан!»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Гыу\Desktop\фото Кассиля.jpg"/>
          <p:cNvPicPr/>
          <p:nvPr/>
        </p:nvPicPr>
        <p:blipFill>
          <a:blip r:embed="rId1"/>
          <a:stretch/>
        </p:blipFill>
        <p:spPr>
          <a:xfrm>
            <a:off x="1187280" y="476280"/>
            <a:ext cx="259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8:26:29Z</dcterms:created>
  <dc:creator>Samsung</dc:creator>
  <dc:description/>
  <dc:language>en-US</dc:language>
  <cp:lastModifiedBy>user</cp:lastModifiedBy>
  <dcterms:modified xsi:type="dcterms:W3CDTF">2020-04-20T08:39:05Z</dcterms:modified>
  <cp:revision>18</cp:revision>
  <dc:subject/>
  <dc:title>Шаблоны для презентации «Литература»</dc:title>
</cp:coreProperties>
</file>